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1EB-387F-4B15-95CA-7D258CC4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92F6-FC1E-4EB9-B63A-16293335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26C-4CDB-4036-92F4-479DC70A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A74-5000-4E47-8CD0-B786E223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A399-6F72-45A3-9A2A-59C7A3DB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8951-5674-46CA-AE82-681E51B1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552B-D9C7-4E66-910C-847F6CA7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37FE-130E-4AD3-8E86-3DA39103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7B76-46D7-4D0F-87D4-14E08BB9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5E3E-5E1F-4DDE-83D7-842A1D4D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6250-50BD-45CD-A957-2404B39C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768-A856-42AA-9901-A7FA0E0C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FBDD-DBF6-46C1-AF90-67398F34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333F-8FFC-44E3-B3A4-169532FF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9F11-C15B-4E7B-B97E-F8531E17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3E7E-920C-4962-8266-7F659CB4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5552-B7BF-4F56-B6EA-A85FB841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5C6-74AE-45D8-BC4E-BDB7B581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738-36DE-47CB-A924-284143EF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59A4-2DC8-47AA-8DFD-A7713892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185-67B5-4F99-AE16-0D8E893E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6D6-029A-4A5B-95EB-E0EBA62F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8E7-C825-4E65-8FE3-241DE7D5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036-28F0-4F6B-B144-A9EE9002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1CF7-906E-462D-9BA4-CDDE7C93EF7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B536-A567-4081-B37C-744A3A0DD79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et’s Review Unit 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 fun with the iclickers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dd. 24 + 52 =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6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7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544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8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B. 24 + 52 = 76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dd. 58 + 27 =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7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78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8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8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D. 58 + 27 = 85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dd. 77 + 96 =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17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16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15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21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A. 77 + 96 = 173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olve.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d has 26 cars. He has 49 trucks. How many cars &amp; trucks does he have altogeth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73 cars and truck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63 cars and truck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75 cars and truck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85 cars and truck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C. 26 + 49 = 75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much? D D D N  P  P  P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48 c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38 c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43 c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34 c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16765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1676520"/>
            <a:ext cx="53316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6765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16765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1676520"/>
            <a:ext cx="53316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16765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1676520"/>
            <a:ext cx="53316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91440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B. 38 cents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    D    D   N    P    P    P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0, 20, 30, 35, 36, 37, 38 cen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505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3505320"/>
            <a:ext cx="53316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3505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3505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3505320"/>
            <a:ext cx="53316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3505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3505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oof Drawing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ich of the following is a proof drawing for 139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         | | | | |  | | | | · · ·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           · · · · ·  · · · · | | |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 .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| | |  · · · · ·  · · · 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|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· · · · ·  · · · 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676520" y="2819520"/>
          <a:ext cx="761760" cy="53316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752480" y="3657600"/>
          <a:ext cx="762120" cy="533520"/>
        </p:xfrm>
        <a:graphic>
          <a:graphicData uri="http://schemas.openxmlformats.org/drawingml/2006/table">
            <a:tbl>
              <a:tblPr/>
              <a:tblGrid>
                <a:gridCol w="762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752480" y="4495680"/>
          <a:ext cx="762120" cy="533520"/>
        </p:xfrm>
        <a:graphic>
          <a:graphicData uri="http://schemas.openxmlformats.org/drawingml/2006/table">
            <a:tbl>
              <a:tblPr/>
              <a:tblGrid>
                <a:gridCol w="762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286000" y="5257800"/>
          <a:ext cx="762120" cy="533520"/>
        </p:xfrm>
        <a:graphic>
          <a:graphicData uri="http://schemas.openxmlformats.org/drawingml/2006/table">
            <a:tbl>
              <a:tblPr/>
              <a:tblGrid>
                <a:gridCol w="762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352680" y="5334120"/>
          <a:ext cx="762120" cy="533160"/>
        </p:xfrm>
        <a:graphic>
          <a:graphicData uri="http://schemas.openxmlformats.org/drawingml/2006/table">
            <a:tbl>
              <a:tblPr/>
              <a:tblGrid>
                <a:gridCol w="7621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343400" y="5334120"/>
          <a:ext cx="762120" cy="533160"/>
        </p:xfrm>
        <a:graphic>
          <a:graphicData uri="http://schemas.openxmlformats.org/drawingml/2006/table">
            <a:tbl>
              <a:tblPr/>
              <a:tblGrid>
                <a:gridCol w="7621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ntinue the number sequence and write the rule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807732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6, 22, 28, ___, ___, ___  rule n ____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34, 40, 46  ru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n + 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16, 22, 28  ru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n + 4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42, 59, 68  ru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n -4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34, 40, 46 ru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n - 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85345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16, 22, 28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34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40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4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ru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n + 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Great job!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Now you’re ready for your test on Chapter 5! Congratulations!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84582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C. 1 hundred 3 tens 9 ones = 139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56386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    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113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teen hundr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113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hundred thirtee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131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hundred thirty o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131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ty one hundr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1447920"/>
            <a:ext cx="88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2680" y="1433520"/>
            <a:ext cx="70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181480" y="1447920"/>
          <a:ext cx="990360" cy="51732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6324480" y="152388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| ••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14479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80280" y="12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B. 113 one hundred thirteen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dd. 64 + 3 =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67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94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61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6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565280" y="262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A. 64 + 3 = 67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dd. 40 + 50 =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1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8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9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4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C. 40 + 50 = 90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6:06:56Z</dcterms:created>
  <dc:creator>West Shore  School District</dc:creator>
  <dc:description/>
  <dc:language>en-US</dc:language>
  <cp:lastModifiedBy>West Shore  School District</cp:lastModifiedBy>
  <dcterms:modified xsi:type="dcterms:W3CDTF">2009-02-11T17:07:46Z</dcterms:modified>
  <cp:revision>3</cp:revision>
  <dc:subject/>
  <dc:title>Let’s Review Unit 5</dc:title>
</cp:coreProperties>
</file>